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dt" idx="15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ftr" idx="16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 type="sldNum" idx="17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E90CEC08-7C11-4068-8B26-48BAAB5AC059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Marcador de Posição do Número do Diapositivo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CC4E2A2F-B325-40C0-97FB-09B3756E90BE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Marcador de Posição do Número do Diapositivo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958928C2-42AF-4F05-B8C6-A6F35A5A3026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Marcador de Posição do Número do Diapositivo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FA33A440-E765-47D3-A6D2-D0498D221891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Marcador de Posição do Número do Diapositivo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875D2465-63F3-4926-A219-2EB1C0AC025A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B122C-B68E-4670-9E27-A62AD01EB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FC141-AE81-40FE-BE4D-2F4319612AB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33160" y="558360"/>
            <a:ext cx="8056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692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8104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3316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692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8104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BC852A-2664-4F25-B3B9-2A024F18E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5FD9C-0852-4662-8936-6BE0D4C6CAD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365C37-223C-4DC2-A75E-3C4C218325F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87D79D-2F98-49C1-A1F9-6A2C87BEB24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2C8F46-EAFB-4498-827D-9941A694BD3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9E14D7-CA88-44D2-BDA3-DBF955D6CCE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533160" y="558360"/>
            <a:ext cx="8056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C01F1C-CF76-45B9-AA41-68F376A7610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8C14D5-1D14-41F3-83E7-BA1B9949073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F05322-7999-4F18-A508-7C37D617B7F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C08A99-B70C-4CB0-BB6F-A6A6E74E9E7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7E6363-57CF-4282-AF39-7868D29ED18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3C500B-7027-40A3-B8CB-6ABB28C9B7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5692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104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5692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104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FA43C-8DEF-4B81-B56D-3D03359D08B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5692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98104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3316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5692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98104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88D6FD-B737-4876-AE84-10C5B752294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6C461-BC86-40DE-B5D5-F4C3AB4AD34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E0B2F-99AA-498E-800C-800FF958F81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2D804-CC00-4B86-9D80-2CB3535E26C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ED620-1DEE-49F5-92CB-6A19025BBAF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BDBAD-1F4C-4435-8B5F-C8DD886BFB1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533160" y="558360"/>
            <a:ext cx="8056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17AF5-B4B3-47A2-AA9E-979D8536766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8CAB0-55EA-4A80-8415-249CFE0A0FC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BD845-2C2E-4F15-8772-C635DD3B279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A35AE-CC08-47E1-AE24-527A19027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A325A-6941-4341-BE07-66ACAEACE70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13FF9-2E45-4B04-868B-3DADFA1704C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5692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98104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3316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5692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98104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3144B-18DC-4094-837B-AEE05EA239C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C0C1BC-21C5-468E-887D-EB87EF7E752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32992D-DF35-40BD-863B-ED4AA6DFA71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92FE17-AA0F-434B-9D7E-207457724F6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3FD0E9-6F13-42A7-8E1C-B3918363679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8C44C3-FC9C-47FE-B7EE-70D9412B442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33160" y="558360"/>
            <a:ext cx="8056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B84793-A677-4771-903C-0757C57740D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FACE76-C1D3-4B79-8C47-3AB58F92B0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5C882F-2D02-48EC-8120-AD7C7F79EF5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DD26FB-5DDD-4CAE-9EA9-9F19FB41F43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A81D49-2741-40F9-8029-F591F5B8940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0F6FD3-EF5D-43B6-A372-83286B82AB0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5692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8104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3316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5692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8104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417D25-C03D-49ED-8217-94F1B3FBE1E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533160" y="558360"/>
            <a:ext cx="8056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5692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98104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3316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5692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598104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558360"/>
            <a:ext cx="8056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9FF4E-D507-4ED6-93E3-F71A5DFEF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5692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8104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5692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8104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1535F-68FA-4CF2-8042-30B068F884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33160" y="558360"/>
            <a:ext cx="8056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5692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8104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316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5692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8104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6A3A1-E4E3-4709-A8BE-F3C101A7F8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533160" y="558360"/>
            <a:ext cx="8056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5692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8104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3316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5692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8104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4154D-A0AA-4B24-ADE0-D44A1333EBE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3160" y="558360"/>
            <a:ext cx="8056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558360"/>
            <a:ext cx="8056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E3907-9229-4425-8AA2-45ADBB4D54E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5692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8104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3316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5692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8104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533160" y="558360"/>
            <a:ext cx="8056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46FFF-B73F-4BC6-854A-8BE77814B25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5692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8104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3316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5692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8104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533160" y="558360"/>
            <a:ext cx="8056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71D8C-699F-4206-8ECB-D2EBD1380E6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5692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8104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3316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5692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8104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4F25BA-D966-4F13-9CB5-19378CF9A5E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5F3DD9-2CBB-48AF-B51A-356933FF581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20C67-2AE8-4632-BA24-02EC59B80D9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6F749-19EA-4CC3-9C55-BF907DB1393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9797E7-6762-4C2B-B851-EA2B2B2D9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29D39-3586-4931-8378-8C5DD4C0E93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533160" y="558360"/>
            <a:ext cx="8056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5CB08C-E41E-42E9-ADDB-2DD2040DF13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84381D-3919-4CAA-921E-C203E089EB5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579906-E2D4-4846-9249-B128348AFD9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5334F8-330E-44E5-9773-57F1EB82D22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EAF35-5680-4557-9D09-CB75560C960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1A3FE-C5C6-402C-AB50-BB09B930A7F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5692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8104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3316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5692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8104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4B49D9-30BE-45F3-890E-ECD13F40998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25600" y="6356520"/>
            <a:ext cx="54943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278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72B8570C-6B8B-450B-A98D-0355123634FC}" type="slidenum">
              <a:rPr b="0" lang="en-US" sz="10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icture 2"/>
          <p:cNvSpPr/>
          <p:nvPr/>
        </p:nvSpPr>
        <p:spPr>
          <a:xfrm>
            <a:off x="6437160" y="311040"/>
            <a:ext cx="871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icture 2"/>
          <p:cNvSpPr/>
          <p:nvPr/>
        </p:nvSpPr>
        <p:spPr>
          <a:xfrm>
            <a:off x="6397560" y="254160"/>
            <a:ext cx="871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N:\Geral\Logotipos\CBHSF\Logo_CBHSF.tif"/>
          <p:cNvPicPr/>
          <p:nvPr/>
        </p:nvPicPr>
        <p:blipFill>
          <a:blip r:embed="rId2"/>
          <a:stretch/>
        </p:blipFill>
        <p:spPr>
          <a:xfrm>
            <a:off x="7729560" y="311040"/>
            <a:ext cx="871560" cy="641520"/>
          </a:xfrm>
          <a:prstGeom prst="rect">
            <a:avLst/>
          </a:prstGeom>
          <a:ln w="0">
            <a:noFill/>
          </a:ln>
        </p:spPr>
      </p:pic>
      <p:pic>
        <p:nvPicPr>
          <p:cNvPr id="375" name="Imagem 9" descr=""/>
          <p:cNvPicPr/>
          <p:nvPr/>
        </p:nvPicPr>
        <p:blipFill>
          <a:blip r:embed="rId3"/>
          <a:stretch/>
        </p:blipFill>
        <p:spPr>
          <a:xfrm>
            <a:off x="6418440" y="428760"/>
            <a:ext cx="1184040" cy="4665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9"/>
          </p:nvPr>
        </p:nvSpPr>
        <p:spPr>
          <a:xfrm>
            <a:off x="525600" y="6356520"/>
            <a:ext cx="54943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10"/>
          </p:nvPr>
        </p:nvSpPr>
        <p:spPr>
          <a:xfrm>
            <a:off x="65278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8F3764BB-88C9-41ED-9373-5B97ACBC62BD}" type="slidenum">
              <a:rPr b="0" lang="en-US" sz="10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icture 2"/>
          <p:cNvSpPr/>
          <p:nvPr/>
        </p:nvSpPr>
        <p:spPr>
          <a:xfrm>
            <a:off x="6437160" y="311040"/>
            <a:ext cx="871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icture 2"/>
          <p:cNvSpPr/>
          <p:nvPr/>
        </p:nvSpPr>
        <p:spPr>
          <a:xfrm>
            <a:off x="6397560" y="254160"/>
            <a:ext cx="871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N:\Geral\Logotipos\CBHSF\Logo_CBHSF.tif"/>
          <p:cNvPicPr/>
          <p:nvPr/>
        </p:nvPicPr>
        <p:blipFill>
          <a:blip r:embed="rId2"/>
          <a:stretch/>
        </p:blipFill>
        <p:spPr>
          <a:xfrm>
            <a:off x="7729560" y="311040"/>
            <a:ext cx="871560" cy="641520"/>
          </a:xfrm>
          <a:prstGeom prst="rect">
            <a:avLst/>
          </a:prstGeom>
          <a:ln w="0">
            <a:noFill/>
          </a:ln>
        </p:spPr>
      </p:pic>
      <p:pic>
        <p:nvPicPr>
          <p:cNvPr id="419" name="Imagem 9" descr=""/>
          <p:cNvPicPr/>
          <p:nvPr/>
        </p:nvPicPr>
        <p:blipFill>
          <a:blip r:embed="rId3"/>
          <a:stretch/>
        </p:blipFill>
        <p:spPr>
          <a:xfrm>
            <a:off x="6418440" y="428760"/>
            <a:ext cx="1184040" cy="4665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11"/>
          </p:nvPr>
        </p:nvSpPr>
        <p:spPr>
          <a:xfrm>
            <a:off x="525600" y="6356520"/>
            <a:ext cx="54943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12"/>
          </p:nvPr>
        </p:nvSpPr>
        <p:spPr>
          <a:xfrm>
            <a:off x="65278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32A4483A-6408-4F14-ADBB-8B7F668AEDB1}" type="slidenum">
              <a:rPr b="0" lang="en-US" sz="10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icture 2"/>
          <p:cNvSpPr/>
          <p:nvPr/>
        </p:nvSpPr>
        <p:spPr>
          <a:xfrm>
            <a:off x="6437160" y="311040"/>
            <a:ext cx="871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icture 2"/>
          <p:cNvSpPr/>
          <p:nvPr/>
        </p:nvSpPr>
        <p:spPr>
          <a:xfrm>
            <a:off x="6397560" y="254160"/>
            <a:ext cx="871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2" descr="N:\Geral\Logotipos\CBHSF\Logo_CBHSF.tif"/>
          <p:cNvPicPr/>
          <p:nvPr/>
        </p:nvPicPr>
        <p:blipFill>
          <a:blip r:embed="rId2"/>
          <a:stretch/>
        </p:blipFill>
        <p:spPr>
          <a:xfrm>
            <a:off x="7729560" y="311040"/>
            <a:ext cx="871560" cy="641520"/>
          </a:xfrm>
          <a:prstGeom prst="rect">
            <a:avLst/>
          </a:prstGeom>
          <a:ln w="0">
            <a:noFill/>
          </a:ln>
        </p:spPr>
      </p:pic>
      <p:pic>
        <p:nvPicPr>
          <p:cNvPr id="463" name="Imagem 9" descr=""/>
          <p:cNvPicPr/>
          <p:nvPr/>
        </p:nvPicPr>
        <p:blipFill>
          <a:blip r:embed="rId3"/>
          <a:stretch/>
        </p:blipFill>
        <p:spPr>
          <a:xfrm>
            <a:off x="6418440" y="428760"/>
            <a:ext cx="1184040" cy="4665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13"/>
          </p:nvPr>
        </p:nvSpPr>
        <p:spPr>
          <a:xfrm>
            <a:off x="525600" y="6356520"/>
            <a:ext cx="54943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sldNum" idx="14"/>
          </p:nvPr>
        </p:nvSpPr>
        <p:spPr>
          <a:xfrm>
            <a:off x="65278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640BEC64-9C02-4248-AFC3-22EFFA70438C}" type="slidenum">
              <a:rPr b="0" lang="en-US" sz="10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Imagem 6" descr=""/>
          <p:cNvPicPr/>
          <p:nvPr/>
        </p:nvPicPr>
        <p:blipFill>
          <a:blip r:embed="rId2"/>
          <a:stretch/>
        </p:blipFill>
        <p:spPr>
          <a:xfrm>
            <a:off x="7416720" y="428760"/>
            <a:ext cx="1184400" cy="46656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cap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3"/>
          </p:nvPr>
        </p:nvSpPr>
        <p:spPr>
          <a:xfrm>
            <a:off x="525600" y="6356520"/>
            <a:ext cx="54943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logo_nemus.jpg"/>
          <p:cNvPicPr/>
          <p:nvPr/>
        </p:nvPicPr>
        <p:blipFill>
          <a:blip r:embed="rId2"/>
          <a:stretch/>
        </p:blipFill>
        <p:spPr>
          <a:xfrm>
            <a:off x="7348680" y="428760"/>
            <a:ext cx="1338120" cy="466560"/>
          </a:xfrm>
          <a:prstGeom prst="rect">
            <a:avLst/>
          </a:prstGeom>
          <a:ln w="0">
            <a:noFill/>
          </a:ln>
        </p:spPr>
      </p:pic>
      <p:sp>
        <p:nvSpPr>
          <p:cNvPr id="119" name="Picture 2"/>
          <p:cNvSpPr/>
          <p:nvPr/>
        </p:nvSpPr>
        <p:spPr>
          <a:xfrm>
            <a:off x="6437160" y="311040"/>
            <a:ext cx="871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icture 2"/>
          <p:cNvSpPr/>
          <p:nvPr/>
        </p:nvSpPr>
        <p:spPr>
          <a:xfrm>
            <a:off x="6397560" y="254160"/>
            <a:ext cx="871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N:\Geral\Logotipos\CBHSF\Logo_CBHSF.tif"/>
          <p:cNvPicPr/>
          <p:nvPr/>
        </p:nvPicPr>
        <p:blipFill>
          <a:blip r:embed="rId3"/>
          <a:stretch/>
        </p:blipFill>
        <p:spPr>
          <a:xfrm>
            <a:off x="6437160" y="311040"/>
            <a:ext cx="871560" cy="641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4"/>
          </p:nvPr>
        </p:nvSpPr>
        <p:spPr>
          <a:xfrm>
            <a:off x="525600" y="6356520"/>
            <a:ext cx="54943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logo_nemus.jpg"/>
          <p:cNvPicPr/>
          <p:nvPr/>
        </p:nvPicPr>
        <p:blipFill>
          <a:blip r:embed="rId2"/>
          <a:stretch/>
        </p:blipFill>
        <p:spPr>
          <a:xfrm>
            <a:off x="7348680" y="428760"/>
            <a:ext cx="1338120" cy="466560"/>
          </a:xfrm>
          <a:prstGeom prst="rect">
            <a:avLst/>
          </a:prstGeom>
          <a:ln w="0">
            <a:noFill/>
          </a:ln>
        </p:spPr>
      </p:pic>
      <p:sp>
        <p:nvSpPr>
          <p:cNvPr id="162" name="Picture 2"/>
          <p:cNvSpPr/>
          <p:nvPr/>
        </p:nvSpPr>
        <p:spPr>
          <a:xfrm>
            <a:off x="6437160" y="311040"/>
            <a:ext cx="871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icture 2"/>
          <p:cNvSpPr/>
          <p:nvPr/>
        </p:nvSpPr>
        <p:spPr>
          <a:xfrm>
            <a:off x="6397560" y="254160"/>
            <a:ext cx="871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N:\Geral\Logotipos\CBHSF\Logo_CBHSF.tif"/>
          <p:cNvPicPr/>
          <p:nvPr/>
        </p:nvPicPr>
        <p:blipFill>
          <a:blip r:embed="rId3"/>
          <a:stretch/>
        </p:blipFill>
        <p:spPr>
          <a:xfrm>
            <a:off x="6437160" y="311040"/>
            <a:ext cx="871560" cy="6415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5"/>
          </p:nvPr>
        </p:nvSpPr>
        <p:spPr>
          <a:xfrm>
            <a:off x="525600" y="6356520"/>
            <a:ext cx="54943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6"/>
          </p:nvPr>
        </p:nvSpPr>
        <p:spPr>
          <a:xfrm>
            <a:off x="525600" y="6369120"/>
            <a:ext cx="54943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icture 2"/>
          <p:cNvSpPr/>
          <p:nvPr/>
        </p:nvSpPr>
        <p:spPr>
          <a:xfrm>
            <a:off x="6437160" y="311040"/>
            <a:ext cx="871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icture 2"/>
          <p:cNvSpPr/>
          <p:nvPr/>
        </p:nvSpPr>
        <p:spPr>
          <a:xfrm>
            <a:off x="6397560" y="254160"/>
            <a:ext cx="871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N:\Geral\Logotipos\CBHSF\Logo_CBHSF.tif"/>
          <p:cNvPicPr/>
          <p:nvPr/>
        </p:nvPicPr>
        <p:blipFill>
          <a:blip r:embed="rId2"/>
          <a:stretch/>
        </p:blipFill>
        <p:spPr>
          <a:xfrm>
            <a:off x="7023240" y="5586480"/>
            <a:ext cx="1222200" cy="898560"/>
          </a:xfrm>
          <a:prstGeom prst="rect">
            <a:avLst/>
          </a:prstGeom>
          <a:ln w="0">
            <a:noFill/>
          </a:ln>
        </p:spPr>
      </p:pic>
      <p:pic>
        <p:nvPicPr>
          <p:cNvPr id="246" name="Imagem 9" descr=""/>
          <p:cNvPicPr/>
          <p:nvPr/>
        </p:nvPicPr>
        <p:blipFill>
          <a:blip r:embed="rId3"/>
          <a:stretch/>
        </p:blipFill>
        <p:spPr>
          <a:xfrm>
            <a:off x="720720" y="5799240"/>
            <a:ext cx="20718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65278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C0225DF5-4CE9-4364-9DDE-4AFBDD9F9859}" type="slidenum"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icture 2"/>
          <p:cNvSpPr/>
          <p:nvPr/>
        </p:nvSpPr>
        <p:spPr>
          <a:xfrm>
            <a:off x="6437160" y="311040"/>
            <a:ext cx="871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icture 2"/>
          <p:cNvSpPr/>
          <p:nvPr/>
        </p:nvSpPr>
        <p:spPr>
          <a:xfrm>
            <a:off x="6397560" y="254160"/>
            <a:ext cx="871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N:\Geral\Logotipos\CBHSF\Logo_CBHSF.tif"/>
          <p:cNvPicPr/>
          <p:nvPr/>
        </p:nvPicPr>
        <p:blipFill>
          <a:blip r:embed="rId2"/>
          <a:stretch/>
        </p:blipFill>
        <p:spPr>
          <a:xfrm>
            <a:off x="7729560" y="311040"/>
            <a:ext cx="871560" cy="641520"/>
          </a:xfrm>
          <a:prstGeom prst="rect">
            <a:avLst/>
          </a:prstGeom>
          <a:ln w="0">
            <a:noFill/>
          </a:ln>
        </p:spPr>
      </p:pic>
      <p:pic>
        <p:nvPicPr>
          <p:cNvPr id="289" name="Imagem 10" descr=""/>
          <p:cNvPicPr/>
          <p:nvPr/>
        </p:nvPicPr>
        <p:blipFill>
          <a:blip r:embed="rId3"/>
          <a:stretch/>
        </p:blipFill>
        <p:spPr>
          <a:xfrm>
            <a:off x="6418440" y="428760"/>
            <a:ext cx="1184040" cy="4665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ftr" idx="7"/>
          </p:nvPr>
        </p:nvSpPr>
        <p:spPr>
          <a:xfrm>
            <a:off x="525600" y="6356520"/>
            <a:ext cx="54943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8"/>
          </p:nvPr>
        </p:nvSpPr>
        <p:spPr>
          <a:xfrm>
            <a:off x="65278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A062D363-6472-4EDA-A66C-ADD91036A520}" type="slidenum">
              <a:rPr b="0" lang="en-US" sz="10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icture 2"/>
          <p:cNvSpPr/>
          <p:nvPr/>
        </p:nvSpPr>
        <p:spPr>
          <a:xfrm>
            <a:off x="6437160" y="311040"/>
            <a:ext cx="871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icture 2"/>
          <p:cNvSpPr/>
          <p:nvPr/>
        </p:nvSpPr>
        <p:spPr>
          <a:xfrm>
            <a:off x="6397560" y="254160"/>
            <a:ext cx="871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N:\Geral\Logotipos\CBHSF\Logo_CBHSF.tif"/>
          <p:cNvPicPr/>
          <p:nvPr/>
        </p:nvPicPr>
        <p:blipFill>
          <a:blip r:embed="rId2"/>
          <a:stretch/>
        </p:blipFill>
        <p:spPr>
          <a:xfrm>
            <a:off x="7334280" y="5802480"/>
            <a:ext cx="1135080" cy="834840"/>
          </a:xfrm>
          <a:prstGeom prst="rect">
            <a:avLst/>
          </a:prstGeom>
          <a:ln w="0">
            <a:noFill/>
          </a:ln>
        </p:spPr>
      </p:pic>
      <p:pic>
        <p:nvPicPr>
          <p:cNvPr id="333" name="Imagem 9" descr=""/>
          <p:cNvPicPr/>
          <p:nvPr/>
        </p:nvPicPr>
        <p:blipFill>
          <a:blip r:embed="rId3"/>
          <a:stretch/>
        </p:blipFill>
        <p:spPr>
          <a:xfrm>
            <a:off x="793800" y="5923080"/>
            <a:ext cx="1820880" cy="7174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Imagem 1" descr=""/>
          <p:cNvPicPr/>
          <p:nvPr/>
        </p:nvPicPr>
        <p:blipFill>
          <a:blip r:embed="rId1"/>
          <a:stretch/>
        </p:blipFill>
        <p:spPr>
          <a:xfrm>
            <a:off x="431640" y="6029280"/>
            <a:ext cx="1413000" cy="595440"/>
          </a:xfrm>
          <a:prstGeom prst="rect">
            <a:avLst/>
          </a:prstGeom>
          <a:ln w="0">
            <a:noFill/>
          </a:ln>
        </p:spPr>
      </p:pic>
      <p:pic>
        <p:nvPicPr>
          <p:cNvPr id="551" name="Imagem 20" descr="CBHSF.png"/>
          <p:cNvPicPr/>
          <p:nvPr/>
        </p:nvPicPr>
        <p:blipFill>
          <a:blip r:embed="rId2"/>
          <a:stretch/>
        </p:blipFill>
        <p:spPr>
          <a:xfrm>
            <a:off x="7416720" y="5918040"/>
            <a:ext cx="1173240" cy="739800"/>
          </a:xfrm>
          <a:prstGeom prst="rect">
            <a:avLst/>
          </a:prstGeom>
          <a:ln w="0">
            <a:noFill/>
          </a:ln>
        </p:spPr>
      </p:pic>
      <p:sp>
        <p:nvSpPr>
          <p:cNvPr id="552" name="CaixaDeTexto 1"/>
          <p:cNvSpPr/>
          <p:nvPr/>
        </p:nvSpPr>
        <p:spPr>
          <a:xfrm>
            <a:off x="696960" y="2602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ONSELHO NACIONAL DE RECURSOS HÍDRICOS - CN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CaixaDeTexto 3"/>
          <p:cNvSpPr/>
          <p:nvPr/>
        </p:nvSpPr>
        <p:spPr>
          <a:xfrm>
            <a:off x="122400" y="138096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Arial"/>
              </a:rPr>
              <a:t>98ª REUNIÃO CTCO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CaixaDeTexto 1"/>
          <p:cNvSpPr/>
          <p:nvPr/>
        </p:nvSpPr>
        <p:spPr>
          <a:xfrm>
            <a:off x="558720" y="2327400"/>
            <a:ext cx="8031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tualização da Metodologia de Cobrança pelo Uso de Recursos Hídricos na Bacia do Rio São FRanc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CaixaDeTexto 1"/>
          <p:cNvSpPr/>
          <p:nvPr/>
        </p:nvSpPr>
        <p:spPr>
          <a:xfrm>
            <a:off x="971640" y="4459320"/>
            <a:ext cx="727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lberto Simon Schvartz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retor Técnico - Agência Peixe V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rasília, 10 de outubro de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ítulo 12"/>
          <p:cNvSpPr/>
          <p:nvPr/>
        </p:nvSpPr>
        <p:spPr>
          <a:xfrm>
            <a:off x="1968480" y="274680"/>
            <a:ext cx="50673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Cobrança pela captação de 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ítulo 12"/>
          <p:cNvSpPr/>
          <p:nvPr/>
        </p:nvSpPr>
        <p:spPr>
          <a:xfrm>
            <a:off x="1968480" y="274680"/>
            <a:ext cx="50673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Cobrança pela captação de 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spaço Reservado para Conteúdo 13"/>
          <p:cNvSpPr/>
          <p:nvPr/>
        </p:nvSpPr>
        <p:spPr>
          <a:xfrm>
            <a:off x="214200" y="1106640"/>
            <a:ext cx="2400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  <a:ea typeface="Tahoma"/>
              </a:rPr>
              <a:t>Irrig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CaixaDeTexto 38"/>
          <p:cNvSpPr/>
          <p:nvPr/>
        </p:nvSpPr>
        <p:spPr>
          <a:xfrm>
            <a:off x="2349360" y="1252440"/>
            <a:ext cx="5067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eficiênci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=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sistema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manej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Elipse 14"/>
          <p:cNvSpPr/>
          <p:nvPr/>
        </p:nvSpPr>
        <p:spPr>
          <a:xfrm>
            <a:off x="5781600" y="1220760"/>
            <a:ext cx="140976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CaixaDeTexto 38"/>
          <p:cNvSpPr/>
          <p:nvPr/>
        </p:nvSpPr>
        <p:spPr>
          <a:xfrm>
            <a:off x="1562040" y="2271600"/>
            <a:ext cx="664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manejo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=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manejo solo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manejo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irrig.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8" name="Conector de seta reta 16"/>
          <p:cNvCxnSpPr/>
          <p:nvPr/>
        </p:nvCxnSpPr>
        <p:spPr>
          <a:xfrm flipH="1">
            <a:off x="3377880" y="1836360"/>
            <a:ext cx="2404080" cy="524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19" name="Conector de seta reta 17"/>
          <p:cNvCxnSpPr/>
          <p:nvPr/>
        </p:nvCxnSpPr>
        <p:spPr>
          <a:xfrm>
            <a:off x="6706800" y="2997000"/>
            <a:ext cx="214920" cy="3927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620" name="Imagem 12" descr=""/>
          <p:cNvPicPr/>
          <p:nvPr/>
        </p:nvPicPr>
        <p:blipFill>
          <a:blip r:embed="rId1"/>
          <a:stretch/>
        </p:blipFill>
        <p:spPr>
          <a:xfrm>
            <a:off x="444600" y="3192480"/>
            <a:ext cx="8172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CaixaDeTexto 1"/>
          <p:cNvSpPr/>
          <p:nvPr/>
        </p:nvSpPr>
        <p:spPr>
          <a:xfrm>
            <a:off x="203040" y="266760"/>
            <a:ext cx="880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 1  - Café irrigado com Pivô central LE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cal: Barreiras – BA    Área irrigada: 120 h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umo de água anual: 1.356.600 m³ , Classe II , sem medição de vaz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CaixaDeTexto 2"/>
          <p:cNvSpPr/>
          <p:nvPr/>
        </p:nvSpPr>
        <p:spPr>
          <a:xfrm>
            <a:off x="2070000" y="1568520"/>
            <a:ext cx="4622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ap.ou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PP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aixaDeTexto 3"/>
          <p:cNvSpPr/>
          <p:nvPr/>
        </p:nvSpPr>
        <p:spPr>
          <a:xfrm>
            <a:off x="355680" y="2427120"/>
            <a:ext cx="4254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.356.600 x 0,012 x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CaixaDeTexto 4"/>
          <p:cNvSpPr/>
          <p:nvPr/>
        </p:nvSpPr>
        <p:spPr>
          <a:xfrm>
            <a:off x="5118120" y="2611440"/>
            <a:ext cx="350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 classe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x 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eficiênci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x 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tângulo 21"/>
          <p:cNvSpPr/>
          <p:nvPr/>
        </p:nvSpPr>
        <p:spPr>
          <a:xfrm>
            <a:off x="4876920" y="2274840"/>
            <a:ext cx="4127400" cy="28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CaixaDeTexto 8"/>
          <p:cNvSpPr/>
          <p:nvPr/>
        </p:nvSpPr>
        <p:spPr>
          <a:xfrm>
            <a:off x="5194440" y="3233880"/>
            <a:ext cx="350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1,0 x 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eficiênci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x 1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CaixaDeTexto 9"/>
          <p:cNvSpPr/>
          <p:nvPr/>
        </p:nvSpPr>
        <p:spPr>
          <a:xfrm>
            <a:off x="5156280" y="4186080"/>
            <a:ext cx="37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 ( 0,10 x 0,8 x 0,70 ) =0,0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CaixaDeTexto 10"/>
          <p:cNvSpPr/>
          <p:nvPr/>
        </p:nvSpPr>
        <p:spPr>
          <a:xfrm>
            <a:off x="5156280" y="3695760"/>
            <a:ext cx="939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sis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9" name="Conector de seta reta 26"/>
          <p:cNvCxnSpPr>
            <a:stCxn id="628" idx="2"/>
          </p:cNvCxnSpPr>
          <p:nvPr/>
        </p:nvCxnSpPr>
        <p:spPr>
          <a:xfrm>
            <a:off x="5625720" y="4003200"/>
            <a:ext cx="470520" cy="1832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0" name="CaixaDeTexto 13"/>
          <p:cNvSpPr/>
          <p:nvPr/>
        </p:nvSpPr>
        <p:spPr>
          <a:xfrm>
            <a:off x="6235560" y="3687840"/>
            <a:ext cx="1168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manejo s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CaixaDeTexto 14"/>
          <p:cNvSpPr/>
          <p:nvPr/>
        </p:nvSpPr>
        <p:spPr>
          <a:xfrm>
            <a:off x="7518240" y="3695760"/>
            <a:ext cx="1346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manejo irrig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CaixaDeTexto 15"/>
          <p:cNvSpPr/>
          <p:nvPr/>
        </p:nvSpPr>
        <p:spPr>
          <a:xfrm>
            <a:off x="457200" y="3608280"/>
            <a:ext cx="42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.356.600 x 0,012 x 0,0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CaixaDeTexto 30"/>
          <p:cNvSpPr/>
          <p:nvPr/>
        </p:nvSpPr>
        <p:spPr>
          <a:xfrm>
            <a:off x="673200" y="30733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400" spc="-1" strike="noStrike">
                <a:solidFill>
                  <a:srgbClr val="6a3203"/>
                </a:solidFill>
                <a:latin typeface="Arial"/>
              </a:rPr>
              <a:t>Obs.: Novo PPU propo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4" name="Conector de seta reta 31"/>
          <p:cNvCxnSpPr/>
          <p:nvPr/>
        </p:nvCxnSpPr>
        <p:spPr>
          <a:xfrm>
            <a:off x="2584080" y="3381480"/>
            <a:ext cx="470520" cy="234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5" name="CaixaDeTexto 19"/>
          <p:cNvSpPr/>
          <p:nvPr/>
        </p:nvSpPr>
        <p:spPr>
          <a:xfrm>
            <a:off x="444600" y="4294080"/>
            <a:ext cx="42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R$ 911,63 ou R$ 1.627,9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CaixaDeTexto 20"/>
          <p:cNvSpPr/>
          <p:nvPr/>
        </p:nvSpPr>
        <p:spPr>
          <a:xfrm>
            <a:off x="596880" y="5335560"/>
            <a:ext cx="80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.356.600 x 0,010 x 0,025 = R$ 339,15 (valor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gen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Conector de seta reta 34"/>
          <p:cNvCxnSpPr/>
          <p:nvPr/>
        </p:nvCxnSpPr>
        <p:spPr>
          <a:xfrm>
            <a:off x="6797520" y="4016160"/>
            <a:ext cx="121680" cy="2134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38" name="Conector de seta reta 35"/>
          <p:cNvCxnSpPr/>
          <p:nvPr/>
        </p:nvCxnSpPr>
        <p:spPr>
          <a:xfrm flipH="1">
            <a:off x="7819560" y="4057200"/>
            <a:ext cx="207360" cy="2581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9" name="CaixaDeTexto 28"/>
          <p:cNvSpPr/>
          <p:nvPr/>
        </p:nvSpPr>
        <p:spPr>
          <a:xfrm>
            <a:off x="5861160" y="4592520"/>
            <a:ext cx="315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 ( 0,10 x 1 x 1) =0,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CaixaDeTexto 29"/>
          <p:cNvSpPr/>
          <p:nvPr/>
        </p:nvSpPr>
        <p:spPr>
          <a:xfrm>
            <a:off x="5337000" y="4595760"/>
            <a:ext cx="5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tângulo 38"/>
          <p:cNvSpPr/>
          <p:nvPr/>
        </p:nvSpPr>
        <p:spPr>
          <a:xfrm>
            <a:off x="101520" y="4222800"/>
            <a:ext cx="4508640" cy="654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CaixaDeTexto 1"/>
          <p:cNvSpPr/>
          <p:nvPr/>
        </p:nvSpPr>
        <p:spPr>
          <a:xfrm>
            <a:off x="368280" y="25704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 2  - Abóbora irrigada com aspersão conven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cal: Pirapora – MG    Área irrigada: 70 h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umo de água anual: 575.750 m³ , Classe II , sem medição de vaz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CaixaDeTexto 2"/>
          <p:cNvSpPr/>
          <p:nvPr/>
        </p:nvSpPr>
        <p:spPr>
          <a:xfrm>
            <a:off x="2070000" y="1568520"/>
            <a:ext cx="4622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ap.ou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PP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CaixaDeTexto 3"/>
          <p:cNvSpPr/>
          <p:nvPr/>
        </p:nvSpPr>
        <p:spPr>
          <a:xfrm>
            <a:off x="355680" y="2427120"/>
            <a:ext cx="4254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575.750 x 0,012 x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CaixaDeTexto 4"/>
          <p:cNvSpPr/>
          <p:nvPr/>
        </p:nvSpPr>
        <p:spPr>
          <a:xfrm>
            <a:off x="5118120" y="2611440"/>
            <a:ext cx="350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 classe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x 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eficiênci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x 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tângulo 42"/>
          <p:cNvSpPr/>
          <p:nvPr/>
        </p:nvSpPr>
        <p:spPr>
          <a:xfrm>
            <a:off x="4876920" y="2274840"/>
            <a:ext cx="4127400" cy="28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CaixaDeTexto 8"/>
          <p:cNvSpPr/>
          <p:nvPr/>
        </p:nvSpPr>
        <p:spPr>
          <a:xfrm>
            <a:off x="5194440" y="3233880"/>
            <a:ext cx="350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1,0 x 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eficiênci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x 1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CaixaDeTexto 9"/>
          <p:cNvSpPr/>
          <p:nvPr/>
        </p:nvSpPr>
        <p:spPr>
          <a:xfrm>
            <a:off x="5156280" y="4186080"/>
            <a:ext cx="37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 ( 0,15 x 0,8 x 0,70 ) =0,0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CaixaDeTexto 10"/>
          <p:cNvSpPr/>
          <p:nvPr/>
        </p:nvSpPr>
        <p:spPr>
          <a:xfrm>
            <a:off x="5156280" y="3695760"/>
            <a:ext cx="939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sis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0" name="Conector de seta reta 46"/>
          <p:cNvCxnSpPr>
            <a:stCxn id="649" idx="2"/>
          </p:cNvCxnSpPr>
          <p:nvPr/>
        </p:nvCxnSpPr>
        <p:spPr>
          <a:xfrm>
            <a:off x="5625720" y="4003200"/>
            <a:ext cx="470520" cy="1832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51" name="CaixaDeTexto 13"/>
          <p:cNvSpPr/>
          <p:nvPr/>
        </p:nvSpPr>
        <p:spPr>
          <a:xfrm>
            <a:off x="6235560" y="3687840"/>
            <a:ext cx="1168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manejo s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CaixaDeTexto 14"/>
          <p:cNvSpPr/>
          <p:nvPr/>
        </p:nvSpPr>
        <p:spPr>
          <a:xfrm>
            <a:off x="7518240" y="3695760"/>
            <a:ext cx="1346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manejo irrig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CaixaDeTexto 15"/>
          <p:cNvSpPr/>
          <p:nvPr/>
        </p:nvSpPr>
        <p:spPr>
          <a:xfrm>
            <a:off x="457200" y="3608280"/>
            <a:ext cx="42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575.750 x 0,012 x 0,08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CaixaDeTexto 50"/>
          <p:cNvSpPr/>
          <p:nvPr/>
        </p:nvSpPr>
        <p:spPr>
          <a:xfrm>
            <a:off x="673200" y="30733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400" spc="-1" strike="noStrike">
                <a:solidFill>
                  <a:srgbClr val="6a3203"/>
                </a:solidFill>
                <a:latin typeface="Arial"/>
              </a:rPr>
              <a:t>Obs.: Novo PPU propo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5" name="Conector de seta reta 51"/>
          <p:cNvCxnSpPr/>
          <p:nvPr/>
        </p:nvCxnSpPr>
        <p:spPr>
          <a:xfrm>
            <a:off x="2584080" y="3381480"/>
            <a:ext cx="470520" cy="234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56" name="CaixaDeTexto 19"/>
          <p:cNvSpPr/>
          <p:nvPr/>
        </p:nvSpPr>
        <p:spPr>
          <a:xfrm>
            <a:off x="444600" y="4294080"/>
            <a:ext cx="42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R$ 580,36 ou R$ 1.036,3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CaixaDeTexto 20"/>
          <p:cNvSpPr/>
          <p:nvPr/>
        </p:nvSpPr>
        <p:spPr>
          <a:xfrm>
            <a:off x="596880" y="5335560"/>
            <a:ext cx="80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75.750 x 0,010 x 0,025 = R$ 143,94 (valor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gen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8" name="Conector de seta reta 54"/>
          <p:cNvCxnSpPr/>
          <p:nvPr/>
        </p:nvCxnSpPr>
        <p:spPr>
          <a:xfrm>
            <a:off x="6797520" y="4016160"/>
            <a:ext cx="121680" cy="2134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59" name="Conector de seta reta 55"/>
          <p:cNvCxnSpPr/>
          <p:nvPr/>
        </p:nvCxnSpPr>
        <p:spPr>
          <a:xfrm flipH="1">
            <a:off x="7819560" y="4057200"/>
            <a:ext cx="207360" cy="2581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60" name="CaixaDeTexto 28"/>
          <p:cNvSpPr/>
          <p:nvPr/>
        </p:nvSpPr>
        <p:spPr>
          <a:xfrm>
            <a:off x="5861160" y="4592520"/>
            <a:ext cx="315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 ( 0,15 x 1 x 1) =0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CaixaDeTexto 29"/>
          <p:cNvSpPr/>
          <p:nvPr/>
        </p:nvSpPr>
        <p:spPr>
          <a:xfrm>
            <a:off x="5337000" y="4595760"/>
            <a:ext cx="5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tângulo 58"/>
          <p:cNvSpPr/>
          <p:nvPr/>
        </p:nvSpPr>
        <p:spPr>
          <a:xfrm>
            <a:off x="101520" y="4222800"/>
            <a:ext cx="4508640" cy="654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3" name="Conector de seta reta 59"/>
          <p:cNvCxnSpPr/>
          <p:nvPr/>
        </p:nvCxnSpPr>
        <p:spPr>
          <a:xfrm flipV="1">
            <a:off x="2365200" y="2795040"/>
            <a:ext cx="455040" cy="2782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CaixaDeTexto 1"/>
          <p:cNvSpPr/>
          <p:nvPr/>
        </p:nvSpPr>
        <p:spPr>
          <a:xfrm>
            <a:off x="101520" y="203040"/>
            <a:ext cx="890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 3  - Uva irrigada com gotej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cal: Petrolina – PE    Área irrigada: 25 h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umo de água anual: 338.940 m³ , Classe II , sem medição de vaz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CaixaDeTexto 2"/>
          <p:cNvSpPr/>
          <p:nvPr/>
        </p:nvSpPr>
        <p:spPr>
          <a:xfrm>
            <a:off x="2070000" y="1568520"/>
            <a:ext cx="4622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ap.ou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PP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CaixaDeTexto 3"/>
          <p:cNvSpPr/>
          <p:nvPr/>
        </p:nvSpPr>
        <p:spPr>
          <a:xfrm>
            <a:off x="355680" y="2427120"/>
            <a:ext cx="4254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338.940 x 0,012 x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CaixaDeTexto 4"/>
          <p:cNvSpPr/>
          <p:nvPr/>
        </p:nvSpPr>
        <p:spPr>
          <a:xfrm>
            <a:off x="5118120" y="2611440"/>
            <a:ext cx="350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 classe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x 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eficiênci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x 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tângulo 28"/>
          <p:cNvSpPr/>
          <p:nvPr/>
        </p:nvSpPr>
        <p:spPr>
          <a:xfrm>
            <a:off x="4876920" y="2274840"/>
            <a:ext cx="4127400" cy="28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CaixaDeTexto 8"/>
          <p:cNvSpPr/>
          <p:nvPr/>
        </p:nvSpPr>
        <p:spPr>
          <a:xfrm>
            <a:off x="5194440" y="3233880"/>
            <a:ext cx="350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1,0 x 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eficiênci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x 1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CaixaDeTexto 9"/>
          <p:cNvSpPr/>
          <p:nvPr/>
        </p:nvSpPr>
        <p:spPr>
          <a:xfrm>
            <a:off x="5156280" y="4186080"/>
            <a:ext cx="37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 ( 0,10 x 0,8 x 0,70 ) =0,0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CaixaDeTexto 10"/>
          <p:cNvSpPr/>
          <p:nvPr/>
        </p:nvSpPr>
        <p:spPr>
          <a:xfrm>
            <a:off x="5156280" y="3695760"/>
            <a:ext cx="939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sis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2" name="Conector de seta reta 32"/>
          <p:cNvCxnSpPr>
            <a:stCxn id="671" idx="2"/>
          </p:cNvCxnSpPr>
          <p:nvPr/>
        </p:nvCxnSpPr>
        <p:spPr>
          <a:xfrm>
            <a:off x="5625720" y="4003200"/>
            <a:ext cx="470520" cy="1832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3" name="CaixaDeTexto 13"/>
          <p:cNvSpPr/>
          <p:nvPr/>
        </p:nvSpPr>
        <p:spPr>
          <a:xfrm>
            <a:off x="6235560" y="3687840"/>
            <a:ext cx="1168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manejo s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CaixaDeTexto 14"/>
          <p:cNvSpPr/>
          <p:nvPr/>
        </p:nvSpPr>
        <p:spPr>
          <a:xfrm>
            <a:off x="7518240" y="3695760"/>
            <a:ext cx="1346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manejo irrig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CaixaDeTexto 15"/>
          <p:cNvSpPr/>
          <p:nvPr/>
        </p:nvSpPr>
        <p:spPr>
          <a:xfrm>
            <a:off x="457200" y="3608280"/>
            <a:ext cx="42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338.940 x 0,012 x 0,0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CaixaDeTexto 36"/>
          <p:cNvSpPr/>
          <p:nvPr/>
        </p:nvSpPr>
        <p:spPr>
          <a:xfrm>
            <a:off x="673200" y="30733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400" spc="-1" strike="noStrike">
                <a:solidFill>
                  <a:srgbClr val="6a3203"/>
                </a:solidFill>
                <a:latin typeface="Arial"/>
              </a:rPr>
              <a:t>Obs.: Novo PPU propo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7" name="Conector de seta reta 37"/>
          <p:cNvCxnSpPr/>
          <p:nvPr/>
        </p:nvCxnSpPr>
        <p:spPr>
          <a:xfrm>
            <a:off x="2584080" y="3381480"/>
            <a:ext cx="470520" cy="234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8" name="CaixaDeTexto 19"/>
          <p:cNvSpPr/>
          <p:nvPr/>
        </p:nvSpPr>
        <p:spPr>
          <a:xfrm>
            <a:off x="444600" y="4294080"/>
            <a:ext cx="42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R$ 227,77 ou R$ 406,7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CaixaDeTexto 20"/>
          <p:cNvSpPr/>
          <p:nvPr/>
        </p:nvSpPr>
        <p:spPr>
          <a:xfrm>
            <a:off x="596880" y="5335560"/>
            <a:ext cx="80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38.940 x 0,010 x 0,025 = R$ 84,74 (valor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gen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0" name="Conector de seta reta 61"/>
          <p:cNvCxnSpPr/>
          <p:nvPr/>
        </p:nvCxnSpPr>
        <p:spPr>
          <a:xfrm>
            <a:off x="6797520" y="4016160"/>
            <a:ext cx="121680" cy="2134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81" name="Conector de seta reta 62"/>
          <p:cNvCxnSpPr/>
          <p:nvPr/>
        </p:nvCxnSpPr>
        <p:spPr>
          <a:xfrm flipH="1">
            <a:off x="7819560" y="4057200"/>
            <a:ext cx="207360" cy="2581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82" name="CaixaDeTexto 28"/>
          <p:cNvSpPr/>
          <p:nvPr/>
        </p:nvSpPr>
        <p:spPr>
          <a:xfrm>
            <a:off x="5861160" y="4592520"/>
            <a:ext cx="315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 ( 0,10 x 1 x 1) =0,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CaixaDeTexto 29"/>
          <p:cNvSpPr/>
          <p:nvPr/>
        </p:nvSpPr>
        <p:spPr>
          <a:xfrm>
            <a:off x="5337000" y="4595760"/>
            <a:ext cx="5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tângulo 65"/>
          <p:cNvSpPr/>
          <p:nvPr/>
        </p:nvSpPr>
        <p:spPr>
          <a:xfrm>
            <a:off x="101520" y="4222800"/>
            <a:ext cx="4508640" cy="654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5" name="Conector de seta reta 66"/>
          <p:cNvCxnSpPr/>
          <p:nvPr/>
        </p:nvCxnSpPr>
        <p:spPr>
          <a:xfrm flipV="1">
            <a:off x="2365200" y="2795040"/>
            <a:ext cx="455040" cy="2782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CaixaDeTexto 1"/>
          <p:cNvSpPr/>
          <p:nvPr/>
        </p:nvSpPr>
        <p:spPr>
          <a:xfrm>
            <a:off x="216000" y="431640"/>
            <a:ext cx="8762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 4  - Arroz irrigado por inund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cal: Propriá – SE    Área irrigada: 1.000 h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umo de água anual: 15.714.000 m³ , Classe II , sem medição de vaz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CaixaDeTexto 2"/>
          <p:cNvSpPr/>
          <p:nvPr/>
        </p:nvSpPr>
        <p:spPr>
          <a:xfrm>
            <a:off x="2070000" y="1568520"/>
            <a:ext cx="4622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ap.ou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PP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CaixaDeTexto 3"/>
          <p:cNvSpPr/>
          <p:nvPr/>
        </p:nvSpPr>
        <p:spPr>
          <a:xfrm>
            <a:off x="355680" y="2427120"/>
            <a:ext cx="4254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5.714.000 x 0,012 x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CaixaDeTexto 4"/>
          <p:cNvSpPr/>
          <p:nvPr/>
        </p:nvSpPr>
        <p:spPr>
          <a:xfrm>
            <a:off x="5118120" y="2611440"/>
            <a:ext cx="350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 classe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x 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eficiênci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x 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tângulo 42"/>
          <p:cNvSpPr/>
          <p:nvPr/>
        </p:nvSpPr>
        <p:spPr>
          <a:xfrm>
            <a:off x="4876920" y="2274840"/>
            <a:ext cx="4127400" cy="28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CaixaDeTexto 8"/>
          <p:cNvSpPr/>
          <p:nvPr/>
        </p:nvSpPr>
        <p:spPr>
          <a:xfrm>
            <a:off x="5194440" y="3233880"/>
            <a:ext cx="350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1,0 x 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eficiênci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x 1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CaixaDeTexto 9"/>
          <p:cNvSpPr/>
          <p:nvPr/>
        </p:nvSpPr>
        <p:spPr>
          <a:xfrm>
            <a:off x="4991040" y="4222800"/>
            <a:ext cx="3810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 ( 0,30 x 0,8 x 0,70 ) = 0,1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CaixaDeTexto 10"/>
          <p:cNvSpPr/>
          <p:nvPr/>
        </p:nvSpPr>
        <p:spPr>
          <a:xfrm>
            <a:off x="5156280" y="3695760"/>
            <a:ext cx="939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sis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4" name="Conector de seta reta 46"/>
          <p:cNvCxnSpPr>
            <a:stCxn id="693" idx="2"/>
          </p:cNvCxnSpPr>
          <p:nvPr/>
        </p:nvCxnSpPr>
        <p:spPr>
          <a:xfrm>
            <a:off x="5625720" y="4003200"/>
            <a:ext cx="470520" cy="1832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95" name="CaixaDeTexto 13"/>
          <p:cNvSpPr/>
          <p:nvPr/>
        </p:nvSpPr>
        <p:spPr>
          <a:xfrm>
            <a:off x="6235560" y="3687840"/>
            <a:ext cx="1168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manejo s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CaixaDeTexto 14"/>
          <p:cNvSpPr/>
          <p:nvPr/>
        </p:nvSpPr>
        <p:spPr>
          <a:xfrm>
            <a:off x="7518240" y="3695760"/>
            <a:ext cx="1346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manejo irrig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CaixaDeTexto 15"/>
          <p:cNvSpPr/>
          <p:nvPr/>
        </p:nvSpPr>
        <p:spPr>
          <a:xfrm>
            <a:off x="457200" y="3608280"/>
            <a:ext cx="42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5.714.000 x 0,012 x 0,16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CaixaDeTexto 50"/>
          <p:cNvSpPr/>
          <p:nvPr/>
        </p:nvSpPr>
        <p:spPr>
          <a:xfrm>
            <a:off x="673200" y="30733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400" spc="-1" strike="noStrike">
                <a:solidFill>
                  <a:srgbClr val="6a3203"/>
                </a:solidFill>
                <a:latin typeface="Arial"/>
              </a:rPr>
              <a:t>Obs.: Novo PPU propo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9" name="Conector de seta reta 51"/>
          <p:cNvCxnSpPr/>
          <p:nvPr/>
        </p:nvCxnSpPr>
        <p:spPr>
          <a:xfrm>
            <a:off x="2584080" y="3381480"/>
            <a:ext cx="470520" cy="234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00" name="CaixaDeTexto 19"/>
          <p:cNvSpPr/>
          <p:nvPr/>
        </p:nvSpPr>
        <p:spPr>
          <a:xfrm>
            <a:off x="101520" y="4294080"/>
            <a:ext cx="477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R$ 31.679,42 ou R$ 56.570,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CaixaDeTexto 20"/>
          <p:cNvSpPr/>
          <p:nvPr/>
        </p:nvSpPr>
        <p:spPr>
          <a:xfrm>
            <a:off x="596880" y="5335560"/>
            <a:ext cx="80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5.714.000 x 0,010 x 0,025 = R$ 3.928,50 (valor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gen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Conector de seta reta 54"/>
          <p:cNvCxnSpPr/>
          <p:nvPr/>
        </p:nvCxnSpPr>
        <p:spPr>
          <a:xfrm>
            <a:off x="6797520" y="4016160"/>
            <a:ext cx="121680" cy="2134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03" name="Conector de seta reta 55"/>
          <p:cNvCxnSpPr/>
          <p:nvPr/>
        </p:nvCxnSpPr>
        <p:spPr>
          <a:xfrm flipH="1">
            <a:off x="7819560" y="4057200"/>
            <a:ext cx="207360" cy="2581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04" name="CaixaDeTexto 28"/>
          <p:cNvSpPr/>
          <p:nvPr/>
        </p:nvSpPr>
        <p:spPr>
          <a:xfrm>
            <a:off x="5861160" y="4592520"/>
            <a:ext cx="315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 ( 0,30 x 1 x 1) =0,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CaixaDeTexto 29"/>
          <p:cNvSpPr/>
          <p:nvPr/>
        </p:nvSpPr>
        <p:spPr>
          <a:xfrm>
            <a:off x="5337000" y="4595760"/>
            <a:ext cx="5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tângulo 58"/>
          <p:cNvSpPr/>
          <p:nvPr/>
        </p:nvSpPr>
        <p:spPr>
          <a:xfrm>
            <a:off x="101520" y="4222800"/>
            <a:ext cx="4775400" cy="654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7" name="Conector de seta reta 59"/>
          <p:cNvCxnSpPr/>
          <p:nvPr/>
        </p:nvCxnSpPr>
        <p:spPr>
          <a:xfrm flipV="1">
            <a:off x="2365200" y="2795040"/>
            <a:ext cx="455040" cy="2782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ítulo 12"/>
          <p:cNvSpPr/>
          <p:nvPr/>
        </p:nvSpPr>
        <p:spPr>
          <a:xfrm>
            <a:off x="1384200" y="223920"/>
            <a:ext cx="59817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Cobrança pelo lançamento de eflu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Imagem 5" descr=""/>
          <p:cNvPicPr/>
          <p:nvPr/>
        </p:nvPicPr>
        <p:blipFill>
          <a:blip r:embed="rId1"/>
          <a:stretch/>
        </p:blipFill>
        <p:spPr>
          <a:xfrm>
            <a:off x="522360" y="888840"/>
            <a:ext cx="829152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ítulo 12"/>
          <p:cNvSpPr/>
          <p:nvPr/>
        </p:nvSpPr>
        <p:spPr>
          <a:xfrm>
            <a:off x="1384200" y="223920"/>
            <a:ext cx="59817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Cobrança pelo lançamento de eflu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2" descr=""/>
          <p:cNvPicPr/>
          <p:nvPr/>
        </p:nvPicPr>
        <p:blipFill>
          <a:blip r:embed="rId1"/>
          <a:srcRect l="0" t="0" r="0" b="18519"/>
          <a:stretch/>
        </p:blipFill>
        <p:spPr>
          <a:xfrm>
            <a:off x="431640" y="19080"/>
            <a:ext cx="6801120" cy="71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ítulo 12"/>
          <p:cNvSpPr/>
          <p:nvPr/>
        </p:nvSpPr>
        <p:spPr>
          <a:xfrm>
            <a:off x="1384200" y="223920"/>
            <a:ext cx="59817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Cobrança pelo lançamento de eflu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CaixaDeTexto 1"/>
          <p:cNvSpPr/>
          <p:nvPr/>
        </p:nvSpPr>
        <p:spPr>
          <a:xfrm>
            <a:off x="457200" y="1403280"/>
            <a:ext cx="843264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valor a ser pago pelo lançamento de efluentes            dependerá              da carga de poluição lançada (nível de tratament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to maior o tratamento e redução da carga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nor será a vazão de diluiçã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nor será a vazão indisponível no cur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 águ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eta para a direita 4"/>
          <p:cNvSpPr/>
          <p:nvPr/>
        </p:nvSpPr>
        <p:spPr>
          <a:xfrm>
            <a:off x="2762280" y="1911240"/>
            <a:ext cx="977760" cy="486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eta para a direita 6"/>
          <p:cNvSpPr/>
          <p:nvPr/>
        </p:nvSpPr>
        <p:spPr>
          <a:xfrm>
            <a:off x="971640" y="32497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eta para a direita 8"/>
          <p:cNvSpPr/>
          <p:nvPr/>
        </p:nvSpPr>
        <p:spPr>
          <a:xfrm>
            <a:off x="984240" y="42037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7" name=""/>
          <p:cNvGraphicFramePr/>
          <p:nvPr/>
        </p:nvGraphicFramePr>
        <p:xfrm>
          <a:off x="1628640" y="1488960"/>
          <a:ext cx="5765760" cy="2395800"/>
        </p:xfrm>
        <a:graphic>
          <a:graphicData uri="http://schemas.openxmlformats.org/drawingml/2006/table">
            <a:tbl>
              <a:tblPr/>
              <a:tblGrid>
                <a:gridCol w="4416480"/>
                <a:gridCol w="134928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ÇO PÚBLICO UNITÁ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U cap (R$/m</a:t>
                      </a:r>
                      <a:r>
                        <a:rPr b="0" lang="pt-BR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ap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8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U cons (R$/m</a:t>
                      </a:r>
                      <a:r>
                        <a:rPr b="0" lang="pt-BR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onsumido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U lanç (R$/m</a:t>
                      </a:r>
                      <a:r>
                        <a:rPr b="0" lang="pt-BR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disponibiliz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18" name="Título 1"/>
          <p:cNvSpPr/>
          <p:nvPr/>
        </p:nvSpPr>
        <p:spPr>
          <a:xfrm>
            <a:off x="533520" y="666720"/>
            <a:ext cx="82231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Arial"/>
              </a:rPr>
              <a:t>PROPOSTA PARA PPU (20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AutoShape 5"/>
          <p:cNvSpPr/>
          <p:nvPr/>
        </p:nvSpPr>
        <p:spPr>
          <a:xfrm flipH="1">
            <a:off x="6502320" y="4680"/>
            <a:ext cx="2641680" cy="173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599" y="0"/>
                </a:lnTo>
                <a:lnTo>
                  <a:pt x="21599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ítulo 12"/>
          <p:cNvSpPr/>
          <p:nvPr/>
        </p:nvSpPr>
        <p:spPr>
          <a:xfrm>
            <a:off x="927000" y="135000"/>
            <a:ext cx="72136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400" spc="-1" strike="noStrike">
                <a:solidFill>
                  <a:srgbClr val="0070c0"/>
                </a:solidFill>
                <a:latin typeface="Arial"/>
                <a:ea typeface="Tahoma"/>
              </a:rPr>
              <a:t>CRITÉRIOS PARA ATUALIZAÇÃO DOS PREÇOS PÚBLICOS UNITÁRIOS - P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ângulo 11"/>
          <p:cNvSpPr/>
          <p:nvPr/>
        </p:nvSpPr>
        <p:spPr>
          <a:xfrm>
            <a:off x="787320" y="1171440"/>
            <a:ext cx="7556760" cy="43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69920" indent="-16992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A Implementação do Plano de Recursos Hídricos 2016 – 20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9920" indent="-16992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Fases de implementação do pla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50000"/>
              </a:lnSpc>
              <a:tabLst>
                <a:tab algn="l" pos="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a) Fase inicial: 2016-2018 (3 ano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tabLst>
                <a:tab algn="l" pos="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b) Fase intermediária: 2019-2021 (3 ano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tabLst>
                <a:tab algn="l" pos="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c) Fase final: 2022-2025 (4 an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tabLst>
                <a:tab algn="l" pos="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9920" indent="-16992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Arial"/>
                <a:ea typeface="Arial"/>
              </a:rPr>
              <a:t>Necessária atualização de preços para fazer face aos investimentos program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9920" indent="-1699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9920" indent="-16992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Arial"/>
                <a:ea typeface="Arial"/>
              </a:rPr>
              <a:t>Pactuação na bacia hidrográfica para implementação do Plano de Recursos Hídricos 2016 -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Espaço Reservado para Conteúdo 13"/>
          <p:cNvSpPr/>
          <p:nvPr/>
        </p:nvSpPr>
        <p:spPr>
          <a:xfrm>
            <a:off x="2158920" y="1398600"/>
            <a:ext cx="4457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pt-BR" sz="3000" spc="-1" strike="noStrike">
                <a:solidFill>
                  <a:srgbClr val="ff0000"/>
                </a:solidFill>
                <a:latin typeface="Book Antiqua"/>
                <a:ea typeface="Tahoma"/>
              </a:rPr>
              <a:t>O QUE MUDOU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ítulo 12"/>
          <p:cNvSpPr/>
          <p:nvPr/>
        </p:nvSpPr>
        <p:spPr>
          <a:xfrm>
            <a:off x="641520" y="223920"/>
            <a:ext cx="78800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ATUALIZAÇÃO DOS MECANISMOS DE COBRANÇA E DOS PREÇOS PÚBLICOS UNIT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ítulo 12"/>
          <p:cNvSpPr/>
          <p:nvPr/>
        </p:nvSpPr>
        <p:spPr>
          <a:xfrm>
            <a:off x="533520" y="2033640"/>
            <a:ext cx="8432640" cy="36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A possibilidade de medir as vazões realmente utilizad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O estabelecimento de coeficientes de boas prátic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A cobrança do lançamento de efluentes pela vazão que ficará  indisponível no curso de águ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A atualização dos preços públicos unitários (PPU) em 20% (vinte por cen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AutoShape 5"/>
          <p:cNvSpPr/>
          <p:nvPr/>
        </p:nvSpPr>
        <p:spPr>
          <a:xfrm flipH="1">
            <a:off x="6502320" y="4680"/>
            <a:ext cx="2641680" cy="173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599" y="0"/>
                </a:lnTo>
                <a:lnTo>
                  <a:pt x="21599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ítulo 1"/>
          <p:cNvSpPr/>
          <p:nvPr/>
        </p:nvSpPr>
        <p:spPr>
          <a:xfrm>
            <a:off x="2346480" y="138240"/>
            <a:ext cx="4333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Arial"/>
              </a:rPr>
              <a:t>ORÇAMENTO 2016-20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Imagem 4" descr=""/>
          <p:cNvPicPr/>
          <p:nvPr/>
        </p:nvPicPr>
        <p:blipFill>
          <a:blip r:embed="rId1"/>
          <a:srcRect l="27199" t="4682" r="26700" b="5266"/>
          <a:stretch/>
        </p:blipFill>
        <p:spPr>
          <a:xfrm>
            <a:off x="3249720" y="657360"/>
            <a:ext cx="2262240" cy="2506680"/>
          </a:xfrm>
          <a:prstGeom prst="rect">
            <a:avLst/>
          </a:prstGeom>
          <a:ln w="0">
            <a:noFill/>
          </a:ln>
        </p:spPr>
      </p:pic>
      <p:sp>
        <p:nvSpPr>
          <p:cNvPr id="725" name="CaixaDeTexto 1"/>
          <p:cNvSpPr/>
          <p:nvPr/>
        </p:nvSpPr>
        <p:spPr>
          <a:xfrm>
            <a:off x="6110280" y="1282680"/>
            <a:ext cx="2730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PT" sz="2000" spc="-1" strike="noStrike">
                <a:solidFill>
                  <a:srgbClr val="6699ff"/>
                </a:solidFill>
                <a:latin typeface="Arial"/>
                <a:ea typeface="Arial"/>
              </a:rPr>
              <a:t>Orçamento executivo (2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CaixaDeTexto 5"/>
          <p:cNvSpPr/>
          <p:nvPr/>
        </p:nvSpPr>
        <p:spPr>
          <a:xfrm>
            <a:off x="905040" y="1252440"/>
            <a:ext cx="2085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PT" sz="2000" spc="-1" strike="noStrike">
                <a:solidFill>
                  <a:srgbClr val="d36406"/>
                </a:solidFill>
                <a:latin typeface="Arial"/>
                <a:ea typeface="Arial"/>
              </a:rPr>
              <a:t>Orçamento estratégico (98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tângulo 1"/>
          <p:cNvSpPr/>
          <p:nvPr/>
        </p:nvSpPr>
        <p:spPr>
          <a:xfrm>
            <a:off x="5737320" y="2470320"/>
            <a:ext cx="3150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Arial"/>
                <a:ea typeface="Arial"/>
              </a:rPr>
              <a:t>532,5 milhões de re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tângulo 1"/>
          <p:cNvSpPr/>
          <p:nvPr/>
        </p:nvSpPr>
        <p:spPr>
          <a:xfrm>
            <a:off x="104040" y="2465280"/>
            <a:ext cx="2917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Arial"/>
                <a:ea typeface="Arial"/>
              </a:rPr>
              <a:t>30,8 bilhões de re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tângulo 8"/>
          <p:cNvSpPr/>
          <p:nvPr/>
        </p:nvSpPr>
        <p:spPr>
          <a:xfrm>
            <a:off x="155520" y="3124080"/>
            <a:ext cx="8748720" cy="2379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1280" indent="-3412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90000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bastecimento de água (25%;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7,7 bilhões rea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90000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gotamento sanitário, resíduos sólidos e drenagem urbana (63%;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19,3 bilhões  reai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90000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cuperação de áreas degradadas, matas ciliares e nascentes (8%;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2,6 bilhões reai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90000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utras áreas (4%; 1,2 bilhões rea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tângulo 9"/>
          <p:cNvSpPr/>
          <p:nvPr/>
        </p:nvSpPr>
        <p:spPr>
          <a:xfrm>
            <a:off x="155520" y="563580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0000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miárido: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2 a 15 bilhões de rea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ítulo 12"/>
          <p:cNvSpPr/>
          <p:nvPr/>
        </p:nvSpPr>
        <p:spPr>
          <a:xfrm>
            <a:off x="1930320" y="249120"/>
            <a:ext cx="506736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Cobrança pela captação de 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Imagem 2" descr=""/>
          <p:cNvPicPr/>
          <p:nvPr/>
        </p:nvPicPr>
        <p:blipFill>
          <a:blip r:embed="rId1"/>
          <a:stretch/>
        </p:blipFill>
        <p:spPr>
          <a:xfrm>
            <a:off x="406440" y="749160"/>
            <a:ext cx="8643960" cy="5946840"/>
          </a:xfrm>
          <a:prstGeom prst="rect">
            <a:avLst/>
          </a:prstGeom>
          <a:ln w="0">
            <a:noFill/>
          </a:ln>
        </p:spPr>
      </p:pic>
      <p:sp>
        <p:nvSpPr>
          <p:cNvPr id="561" name="Elipse 3"/>
          <p:cNvSpPr/>
          <p:nvPr/>
        </p:nvSpPr>
        <p:spPr>
          <a:xfrm>
            <a:off x="1879560" y="2209680"/>
            <a:ext cx="5257800" cy="762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2" name="Conector de seta reta 4"/>
          <p:cNvCxnSpPr/>
          <p:nvPr/>
        </p:nvCxnSpPr>
        <p:spPr>
          <a:xfrm flipH="1">
            <a:off x="3585600" y="1447560"/>
            <a:ext cx="827640" cy="68652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  <a:tailEnd len="med" type="arrow" w="med"/>
          </a:ln>
        </p:spPr>
      </p:cxnSp>
      <p:sp>
        <p:nvSpPr>
          <p:cNvPr id="563" name="Retângulo 2"/>
          <p:cNvSpPr/>
          <p:nvPr/>
        </p:nvSpPr>
        <p:spPr>
          <a:xfrm>
            <a:off x="5664240" y="1149480"/>
            <a:ext cx="571320" cy="5968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ítulo 12"/>
          <p:cNvSpPr/>
          <p:nvPr/>
        </p:nvSpPr>
        <p:spPr>
          <a:xfrm>
            <a:off x="1930320" y="249120"/>
            <a:ext cx="506736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Cobrança pela captação de 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Imagem 1" descr=""/>
          <p:cNvPicPr/>
          <p:nvPr/>
        </p:nvPicPr>
        <p:blipFill>
          <a:blip r:embed="rId1"/>
          <a:stretch/>
        </p:blipFill>
        <p:spPr>
          <a:xfrm>
            <a:off x="669960" y="1712880"/>
            <a:ext cx="7677000" cy="3075120"/>
          </a:xfrm>
          <a:prstGeom prst="rect">
            <a:avLst/>
          </a:prstGeom>
          <a:ln w="0">
            <a:noFill/>
          </a:ln>
        </p:spPr>
      </p:pic>
      <p:cxnSp>
        <p:nvCxnSpPr>
          <p:cNvPr id="566" name="Conector de seta reta 6"/>
          <p:cNvCxnSpPr/>
          <p:nvPr/>
        </p:nvCxnSpPr>
        <p:spPr>
          <a:xfrm flipH="1" flipV="1">
            <a:off x="2329560" y="4597200"/>
            <a:ext cx="870840" cy="5846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67" name="CaixaDeTexto 7"/>
          <p:cNvSpPr/>
          <p:nvPr/>
        </p:nvSpPr>
        <p:spPr>
          <a:xfrm>
            <a:off x="3441600" y="4889520"/>
            <a:ext cx="384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Necessário pedido de revisão de outorga de direito de uso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Espaço Reservado para Conteúdo 13"/>
          <p:cNvSpPr/>
          <p:nvPr/>
        </p:nvSpPr>
        <p:spPr>
          <a:xfrm>
            <a:off x="1219320" y="1057320"/>
            <a:ext cx="6705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  <a:ea typeface="Tahoma"/>
              </a:rPr>
              <a:t>Ponderação do Qcap (quando houver medi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ítulo 12"/>
          <p:cNvSpPr/>
          <p:nvPr/>
        </p:nvSpPr>
        <p:spPr>
          <a:xfrm>
            <a:off x="1968480" y="274680"/>
            <a:ext cx="50673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Cobrança pela captação de 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0" name="Conector de seta reta 4"/>
          <p:cNvCxnSpPr/>
          <p:nvPr/>
        </p:nvCxnSpPr>
        <p:spPr>
          <a:xfrm flipH="1">
            <a:off x="1751760" y="2116080"/>
            <a:ext cx="1600920" cy="2469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71" name="Espaço Reservado para Conteúdo 13"/>
          <p:cNvSpPr/>
          <p:nvPr/>
        </p:nvSpPr>
        <p:spPr>
          <a:xfrm>
            <a:off x="2108160" y="981000"/>
            <a:ext cx="443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Coeficiente de captação (Kc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258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Imagem 6" descr=""/>
          <p:cNvPicPr/>
          <p:nvPr/>
        </p:nvPicPr>
        <p:blipFill>
          <a:blip r:embed="rId1"/>
          <a:stretch/>
        </p:blipFill>
        <p:spPr>
          <a:xfrm>
            <a:off x="2203560" y="1674720"/>
            <a:ext cx="4336920" cy="441360"/>
          </a:xfrm>
          <a:prstGeom prst="rect">
            <a:avLst/>
          </a:prstGeom>
          <a:ln w="0">
            <a:noFill/>
          </a:ln>
        </p:spPr>
      </p:pic>
      <p:sp>
        <p:nvSpPr>
          <p:cNvPr id="573" name="CaixaDeTexto 8"/>
          <p:cNvSpPr/>
          <p:nvPr/>
        </p:nvSpPr>
        <p:spPr>
          <a:xfrm>
            <a:off x="136440" y="2362320"/>
            <a:ext cx="39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𝑘𝑐𝑙𝑎𝑠𝑠𝑒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leva em conta a classe de Enquadramento do corpo d’água no qual se faz a captação. Válido para todas as capta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CaixaDeTexto 10"/>
          <p:cNvSpPr/>
          <p:nvPr/>
        </p:nvSpPr>
        <p:spPr>
          <a:xfrm>
            <a:off x="228600" y="3784680"/>
            <a:ext cx="4095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eficiênci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Coeficiente que leva em conta a eficiência do uso da água. Este coeficiente assume valores específicos para os usuários de Indústria, Mineração, Saneamento e Irrigação. Para os demais setores usuários, 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eficiência 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5" name="Conector de seta reta 13"/>
          <p:cNvCxnSpPr/>
          <p:nvPr/>
        </p:nvCxnSpPr>
        <p:spPr>
          <a:xfrm flipH="1">
            <a:off x="3579480" y="2290320"/>
            <a:ext cx="1000800" cy="1413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76" name="CaixaDeTexto 15"/>
          <p:cNvSpPr/>
          <p:nvPr/>
        </p:nvSpPr>
        <p:spPr>
          <a:xfrm>
            <a:off x="4454640" y="2824200"/>
            <a:ext cx="397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𝑘𝑟𝑢𝑟𝑎𝑙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Coeficiente que leva em conta as particularidades dos usuários do meio rural (Aquicultura e Dessedentação animal). Para estes usuários, o 𝑘𝑟𝑢𝑟𝑎𝑙 assume valores específicos, como será visto mais adiante. Para os demais setores usuários, 𝑘𝑟𝑢𝑟𝑎𝑙=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7" name="Conector de seta reta 18"/>
          <p:cNvCxnSpPr/>
          <p:nvPr/>
        </p:nvCxnSpPr>
        <p:spPr>
          <a:xfrm flipH="1">
            <a:off x="5363640" y="2014200"/>
            <a:ext cx="501120" cy="708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78" name="Retângulo 10"/>
          <p:cNvSpPr/>
          <p:nvPr/>
        </p:nvSpPr>
        <p:spPr>
          <a:xfrm>
            <a:off x="1968480" y="1484280"/>
            <a:ext cx="901800" cy="6318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ítulo 12"/>
          <p:cNvSpPr/>
          <p:nvPr/>
        </p:nvSpPr>
        <p:spPr>
          <a:xfrm>
            <a:off x="1968480" y="274680"/>
            <a:ext cx="50673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Cobrança pela captação de 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ítulo 12"/>
          <p:cNvSpPr/>
          <p:nvPr/>
        </p:nvSpPr>
        <p:spPr>
          <a:xfrm>
            <a:off x="1968480" y="274680"/>
            <a:ext cx="50673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Cobrança pela captação de 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Espaço Reservado para Conteúdo 13"/>
          <p:cNvSpPr/>
          <p:nvPr/>
        </p:nvSpPr>
        <p:spPr>
          <a:xfrm>
            <a:off x="2351160" y="739800"/>
            <a:ext cx="387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Coeficiente (K eficiê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Imagem 6" descr=""/>
          <p:cNvPicPr/>
          <p:nvPr/>
        </p:nvPicPr>
        <p:blipFill>
          <a:blip r:embed="rId1"/>
          <a:stretch/>
        </p:blipFill>
        <p:spPr>
          <a:xfrm>
            <a:off x="2203560" y="1243080"/>
            <a:ext cx="4336920" cy="439560"/>
          </a:xfrm>
          <a:prstGeom prst="rect">
            <a:avLst/>
          </a:prstGeom>
          <a:ln w="0">
            <a:noFill/>
          </a:ln>
        </p:spPr>
      </p:pic>
      <p:sp>
        <p:nvSpPr>
          <p:cNvPr id="583" name="Espaço Reservado para Conteúdo 13"/>
          <p:cNvSpPr/>
          <p:nvPr/>
        </p:nvSpPr>
        <p:spPr>
          <a:xfrm>
            <a:off x="270000" y="1919160"/>
            <a:ext cx="3867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  <a:ea typeface="Tahoma"/>
              </a:rPr>
              <a:t>Indústria e min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324000" y="2921040"/>
          <a:ext cx="8515080" cy="2793960"/>
        </p:xfrm>
        <a:graphic>
          <a:graphicData uri="http://schemas.openxmlformats.org/drawingml/2006/table">
            <a:tbl>
              <a:tblPr/>
              <a:tblGrid>
                <a:gridCol w="6908760"/>
                <a:gridCol w="876240"/>
                <a:gridCol w="73008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Índice de Reutilização (𝑘</a:t>
                      </a:r>
                      <a:r>
                        <a:rPr b="1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)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Índice de água de reuso (𝑘</a:t>
                      </a:r>
                      <a:r>
                        <a:rPr b="1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𝑘</a:t>
                      </a:r>
                      <a:r>
                        <a:rPr b="1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𝑘</a:t>
                      </a:r>
                      <a:r>
                        <a:rPr b="1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19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- 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- 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 - 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 - 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 - 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85" name="CaixaDeTexto 11"/>
          <p:cNvSpPr/>
          <p:nvPr/>
        </p:nvSpPr>
        <p:spPr>
          <a:xfrm>
            <a:off x="4334040" y="2070000"/>
            <a:ext cx="4317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eficiênci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=𝑘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𝑖𝑛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×𝑘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𝑒𝑥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6" name="Conector de seta reta 17"/>
          <p:cNvCxnSpPr/>
          <p:nvPr/>
        </p:nvCxnSpPr>
        <p:spPr>
          <a:xfrm>
            <a:off x="4673520" y="1723680"/>
            <a:ext cx="457920" cy="3466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ítulo 12"/>
          <p:cNvSpPr/>
          <p:nvPr/>
        </p:nvSpPr>
        <p:spPr>
          <a:xfrm>
            <a:off x="1968480" y="274680"/>
            <a:ext cx="50673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Cobrança pela captação de 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ítulo 12"/>
          <p:cNvSpPr/>
          <p:nvPr/>
        </p:nvSpPr>
        <p:spPr>
          <a:xfrm>
            <a:off x="1968480" y="274680"/>
            <a:ext cx="50673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Cobrança pela captação de 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Espaço Reservado para Conteúdo 13"/>
          <p:cNvSpPr/>
          <p:nvPr/>
        </p:nvSpPr>
        <p:spPr>
          <a:xfrm>
            <a:off x="2351160" y="739800"/>
            <a:ext cx="387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Coeficiente (K eficiê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Espaço Reservado para Conteúdo 13"/>
          <p:cNvSpPr/>
          <p:nvPr/>
        </p:nvSpPr>
        <p:spPr>
          <a:xfrm>
            <a:off x="228600" y="1233360"/>
            <a:ext cx="2400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  <a:ea typeface="Tahoma"/>
              </a:rPr>
              <a:t>Sane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CaixaDeTexto 3"/>
          <p:cNvSpPr/>
          <p:nvPr/>
        </p:nvSpPr>
        <p:spPr>
          <a:xfrm>
            <a:off x="393840" y="2104920"/>
            <a:ext cx="83311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eficiente de gestão operacional 𝑘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𝑂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leva em consideração o Índice de Perdas na Distribuição do usuário constante no SN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CaixaDeTexto 38"/>
          <p:cNvSpPr/>
          <p:nvPr/>
        </p:nvSpPr>
        <p:spPr>
          <a:xfrm>
            <a:off x="2392200" y="1382760"/>
            <a:ext cx="4318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eficiênci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1652760" y="3079800"/>
          <a:ext cx="5838480" cy="2813040"/>
        </p:xfrm>
        <a:graphic>
          <a:graphicData uri="http://schemas.openxmlformats.org/drawingml/2006/table">
            <a:tbl>
              <a:tblPr/>
              <a:tblGrid>
                <a:gridCol w="2625480"/>
                <a:gridCol w="1487520"/>
                <a:gridCol w="1725480"/>
              </a:tblGrid>
              <a:tr h="743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Índice de Perdas de Distribuição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𝑘</a:t>
                      </a:r>
                      <a:r>
                        <a:rPr b="1" i="1" lang="pt-BR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i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201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𝑘</a:t>
                      </a:r>
                      <a:r>
                        <a:rPr b="1" i="1" lang="pt-BR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i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202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1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&lt; P</a:t>
                      </a:r>
                      <a:r>
                        <a:rPr b="1" lang="pt-BR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≤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&lt; P</a:t>
                      </a:r>
                      <a:r>
                        <a:rPr b="1" lang="pt-BR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≤ 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&lt; P</a:t>
                      </a:r>
                      <a:r>
                        <a:rPr b="1" lang="pt-BR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≤ 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pt-BR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ítulo 12"/>
          <p:cNvSpPr/>
          <p:nvPr/>
        </p:nvSpPr>
        <p:spPr>
          <a:xfrm>
            <a:off x="1968480" y="274680"/>
            <a:ext cx="50673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Cobrança pela captação de 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ítulo 12"/>
          <p:cNvSpPr/>
          <p:nvPr/>
        </p:nvSpPr>
        <p:spPr>
          <a:xfrm>
            <a:off x="1968480" y="274680"/>
            <a:ext cx="50673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Cobrança pela captação de 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Espaço Reservado para Conteúdo 13"/>
          <p:cNvSpPr/>
          <p:nvPr/>
        </p:nvSpPr>
        <p:spPr>
          <a:xfrm>
            <a:off x="2351160" y="739800"/>
            <a:ext cx="387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Coeficiente (K eficiê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Espaço Reservado para Conteúdo 13"/>
          <p:cNvSpPr/>
          <p:nvPr/>
        </p:nvSpPr>
        <p:spPr>
          <a:xfrm>
            <a:off x="214200" y="1106640"/>
            <a:ext cx="2400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  <a:ea typeface="Tahoma"/>
              </a:rPr>
              <a:t>Irrig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CaixaDeTexto 38"/>
          <p:cNvSpPr/>
          <p:nvPr/>
        </p:nvSpPr>
        <p:spPr>
          <a:xfrm>
            <a:off x="2349360" y="1252440"/>
            <a:ext cx="5067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eficiênci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=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sistema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manej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CaixaDeTexto 6"/>
          <p:cNvSpPr/>
          <p:nvPr/>
        </p:nvSpPr>
        <p:spPr>
          <a:xfrm>
            <a:off x="1414440" y="21780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coeficiente 𝑘𝑠𝑖𝑠𝑡𝑒𝑚𝑎 visa diferenciar a cobrança conforme o método de irrigação adotado pelo usuár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Elipse 15"/>
          <p:cNvSpPr/>
          <p:nvPr/>
        </p:nvSpPr>
        <p:spPr>
          <a:xfrm>
            <a:off x="4356000" y="1087560"/>
            <a:ext cx="140976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Conector de seta reta 16"/>
          <p:cNvCxnSpPr/>
          <p:nvPr/>
        </p:nvCxnSpPr>
        <p:spPr>
          <a:xfrm flipH="1">
            <a:off x="4012920" y="1836360"/>
            <a:ext cx="489600" cy="3675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602" name="Imagem 27" descr=""/>
          <p:cNvPicPr/>
          <p:nvPr/>
        </p:nvPicPr>
        <p:blipFill>
          <a:blip r:embed="rId1"/>
          <a:stretch/>
        </p:blipFill>
        <p:spPr>
          <a:xfrm>
            <a:off x="762120" y="2849400"/>
            <a:ext cx="797544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ítulo 12"/>
          <p:cNvSpPr/>
          <p:nvPr/>
        </p:nvSpPr>
        <p:spPr>
          <a:xfrm>
            <a:off x="1968480" y="274680"/>
            <a:ext cx="50673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Cobrança pela captação de 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ítulo 12"/>
          <p:cNvSpPr/>
          <p:nvPr/>
        </p:nvSpPr>
        <p:spPr>
          <a:xfrm>
            <a:off x="1968480" y="274680"/>
            <a:ext cx="50673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Cobrança pela captação de 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Espaço Reservado para Conteúdo 13"/>
          <p:cNvSpPr/>
          <p:nvPr/>
        </p:nvSpPr>
        <p:spPr>
          <a:xfrm>
            <a:off x="214200" y="941400"/>
            <a:ext cx="2400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  <a:ea typeface="Tahoma"/>
              </a:rPr>
              <a:t>Irrig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CaixaDeTexto 38"/>
          <p:cNvSpPr/>
          <p:nvPr/>
        </p:nvSpPr>
        <p:spPr>
          <a:xfrm>
            <a:off x="2349360" y="973080"/>
            <a:ext cx="5067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eficiênci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=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sistema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manej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Elipse 19"/>
          <p:cNvSpPr/>
          <p:nvPr/>
        </p:nvSpPr>
        <p:spPr>
          <a:xfrm>
            <a:off x="5781600" y="941400"/>
            <a:ext cx="140976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CaixaDeTexto 38"/>
          <p:cNvSpPr/>
          <p:nvPr/>
        </p:nvSpPr>
        <p:spPr>
          <a:xfrm>
            <a:off x="1562040" y="1903320"/>
            <a:ext cx="664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manejo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= 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manejo solo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manejo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irrig.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9" name="Conector de seta reta 21"/>
          <p:cNvCxnSpPr/>
          <p:nvPr/>
        </p:nvCxnSpPr>
        <p:spPr>
          <a:xfrm flipH="1">
            <a:off x="3377880" y="1557000"/>
            <a:ext cx="2404080" cy="524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10" name="Conector de seta reta 22"/>
          <p:cNvCxnSpPr/>
          <p:nvPr/>
        </p:nvCxnSpPr>
        <p:spPr>
          <a:xfrm>
            <a:off x="5143320" y="2495160"/>
            <a:ext cx="1300680" cy="3927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graphicFrame>
        <p:nvGraphicFramePr>
          <p:cNvPr id="611" name=""/>
          <p:cNvGraphicFramePr/>
          <p:nvPr/>
        </p:nvGraphicFramePr>
        <p:xfrm>
          <a:off x="469800" y="2940120"/>
          <a:ext cx="8255160" cy="2712960"/>
        </p:xfrm>
        <a:graphic>
          <a:graphicData uri="http://schemas.openxmlformats.org/drawingml/2006/table">
            <a:tbl>
              <a:tblPr/>
              <a:tblGrid>
                <a:gridCol w="5676840"/>
                <a:gridCol w="2578320"/>
              </a:tblGrid>
              <a:tr h="699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Cul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𝑘</a:t>
                      </a:r>
                      <a:r>
                        <a:rPr b="1" i="1" lang="pt-BR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anejo sol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 plantio direto ou plantio convencional com práticas conservacionistas de solo: curva de nível, barraginha (caçimba), tratamento de estradas rurais e out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io convencional sem práticas conservacion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15:44Z</dcterms:created>
  <dc:creator>Alberto Schvartzman</dc:creator>
  <dc:description/>
  <dc:language>en-US</dc:language>
  <cp:lastModifiedBy>alberto</cp:lastModifiedBy>
  <cp:lastPrinted>2017-03-16T19:03:53Z</cp:lastPrinted>
  <dcterms:modified xsi:type="dcterms:W3CDTF">2017-10-03T16:52:29Z</dcterms:modified>
  <cp:revision>1744</cp:revision>
  <dc:subject/>
  <dc:title>Apresentação CTOC</dc:title>
</cp:coreProperties>
</file>